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B427-CAE9-4872-B770-A0DCC47C5185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91D9-DB58-4237-8EB5-E1064A81CE03}" type="slidenum">
              <a:rPr b="0" lang="cy-GB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CBB-915F-4702-B0AB-C24198D9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93D-6E64-4FD6-86A2-D2CA3C15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FA1E-F83C-40EB-8FB0-549B89F2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F4A-E97A-48C6-8EA6-1C5D9639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FFD4-6EB4-4FF2-AF98-8918B30B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B383-0279-444F-8330-9F7AC1AE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2231-E53B-427C-9A59-D2001725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A737-D669-48CD-BCFC-6C7849C4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6D77-6347-47E0-90EB-B58C6E9E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5C05-EC02-439A-9648-D3E837C1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19FD-8D23-4FEE-A525-09CEDEEF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B59-E7EC-42E3-9FE4-4B306B29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CA8F-5D0B-4D01-A7B4-96C6FE21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1201-DA91-447F-8F63-F3AF3997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8870-64F7-42FD-8057-D2DBE834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4754-5B32-431E-BD19-C3E9DE35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75FD-3ABF-4BFD-ABA1-534E1086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21F-BBAB-405A-BC28-DA744F66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8D6-CDF2-4218-8030-40305A8B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672-C14B-4F25-9966-CF0302BE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C5D-6151-4C8D-A300-8B3DDD48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2CD-9C0C-4898-854C-E481455E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C91-4C95-48D5-8C47-521DD5F7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89C-AD3A-4F6F-8149-10CA082B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E4C1-F208-4768-A0A9-5E30DCFFD3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E31E-538A-4338-8A72-932E10184735}" type="slidenum">
              <a:rPr b="0" lang="en-GB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ategorïa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U 1.1.12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</a:t>
            </a:r>
            <a:r>
              <a:rPr b="1" lang="cy-GB" sz="4400" spc="-1" strike="noStrike">
                <a:solidFill>
                  <a:srgbClr val="660066"/>
                </a:solidFill>
                <a:latin typeface="Tahoma"/>
              </a:rPr>
              <a:t>sebu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Dwy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Yn defnyddio delweddau, cymeriadau a / neu sefyllfaoedd o hysbysebion eraill neu o lyfrau, ffilmiau, rhaglenni teledu, digwyddiadau hanesyddol ac yn y bla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(Rhyngdestuno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Symlrwyd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Yn tynnu sylw at ba mor hawdd yw gwneud rhywbeth, ”Credyd 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Mewn Munud</a:t>
            </a: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”, ”Ffoniwch am Fenthyciad”, ‘£00000 i’w Wario Heddiw’, ‘Talu Eich Holl Ddyledion’ ‘Y ffordd hawdd’  WONGA, Benthyciadau Diwrnod Cyflog 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et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Llechwraid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Erthyglau ac eitemau nodwedd nad ydynt yn ymddangos i fod yn hysbysebion ar yr olwg gyntaf. Maen nhw’n aml yn edrych fel rhan o ddull neu steil arferol y papur newydd / cylchgrawn – Hysbys-eitemau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Sl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wyddom mai hysbyseb ydyw, ond eto nid yw’n ymddangos bod ganddo lawer i’w wneud â’r cynnyrch. Yn fwy tebygol o fod yn ymwneud â’i glyfrwch ei hun</a:t>
            </a: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Dirgelw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Dim ond weithiau, mae hysbyseb mor slic fel bod y cynnyrch sy’n cael ei hysbysebu’n aro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s yn ddirgelwch llwy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Cydymdeim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Yn mynd at galon y defnyddiw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Yn gwneud i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 chi deimlo’n euog er mwyn ennill eich cydymdeimlad, eich sylw ac yn fwy na dim eich arian</a:t>
            </a: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Stamp y Sê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40458c"/>
                </a:solidFill>
                <a:latin typeface="Tahoma"/>
              </a:rPr>
              <a:t>Mae’r cynnyrch yn cael ei argymell neu ei ategu gan berson, wyneb neu lais enwog. Weithiau, maen nhw’n dweud wrth y defnyddiwr pa mor dda yw’r cynnyrch, dro arall mae’r cysylltiad sydd ganddynt, i bob golwg, â’r cynnyrch yn rhoi hwb i werthiannau, neu efallai mai ond llais y person enwog a ddefnyddi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40458c"/>
                </a:solidFill>
                <a:latin typeface="Tahoma"/>
              </a:rPr>
              <a:t>(gelwir hyn hefyd yn </a:t>
            </a:r>
            <a:r>
              <a:rPr b="1" i="1" lang="sv-SE" sz="2800" spc="-1" strike="noStrike">
                <a:solidFill>
                  <a:srgbClr val="40458c"/>
                </a:solidFill>
                <a:latin typeface="Tahoma"/>
              </a:rPr>
              <a:t>Celebrity Endorsement</a:t>
            </a:r>
            <a:r>
              <a:rPr b="1" lang="sv-SE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Nodd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Mae digwyddiad sy’n aml yn gysylltiedig â chwaraeon yn cael ei noddi gan y cwmni. Mae’n cadw enw’r cynnyrch / brand yng nghof y cyhoedd ac yn creu cysylltiadau da ar gyfer y cynnyrch / brand ym meddwl y defnyddiw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</a:t>
            </a:r>
            <a:r>
              <a:rPr b="1" lang="cy-GB" sz="4400" spc="-1" strike="noStrike">
                <a:solidFill>
                  <a:srgbClr val="660066"/>
                </a:solidFill>
                <a:latin typeface="Tahoma"/>
              </a:rPr>
              <a:t>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Canu a Dawns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Yn defnyddio cerddoriaeth / perfformiad – newydd neu wedi’i ddwyn – a dawns i wneud argraff, e.e. Halifa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(Rhyngdestuno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40458c"/>
                </a:solidFill>
                <a:latin typeface="Tahoma"/>
              </a:rPr>
              <a:t>Sicrwyd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40458c"/>
                </a:solidFill>
                <a:latin typeface="Tahoma"/>
              </a:rPr>
              <a:t>Diogelwch, hapusrwydd, cysur. Mae’r hysbysebion hyn yn awgrymu y bydd y cynnyrch yn sicrhau hapusrwydd teuluol. Os ydych wirioneddol yn caru eich teulu, byddwch yn defnyddio’r cynnyrch hwn. Mae’r hysbyseb yn ecsbloetio’r ffaith bod angen i bobl deimlo’n ddiogel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Stat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Mae’r cynnyrch yn ddrud neu o ‘ansawdd uchel’ a / neu’n cael i ddefnyddio gan bobl gyfoethog ac enwog. Mae cefndiroedd moethus yn awgrymu ffordd y fyw y dylai’r defnyddiwr fod yn ceisio anelu a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Rhy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Mae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 addewid o gariad, rhamant ac apêl rhywiol yn cael ei roi i bobl sy’n prynu’r cynhyrchion hyn, neu fe ddefnyddir y cynnyrch i dynnu a dal sylw’r defnyddiw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Arbed ari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Mae’n dibynnu’n llwyr ar y pris neu ar ostyngiad mewn pris i berswadio’r defnyddiwr i’w bryn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</a:t>
            </a:r>
            <a:r>
              <a:rPr b="1" lang="cy-GB" sz="4400" spc="-1" strike="noStrike">
                <a:solidFill>
                  <a:srgbClr val="660066"/>
                </a:solidFill>
                <a:latin typeface="Tahoma"/>
              </a:rPr>
              <a:t>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40458c"/>
                </a:solidFill>
                <a:latin typeface="Tahoma"/>
              </a:rPr>
              <a:t>Gwyddon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40458c"/>
                </a:solidFill>
                <a:latin typeface="Tahoma"/>
              </a:rPr>
              <a:t>Yn awgrymu </a:t>
            </a:r>
            <a:r>
              <a:rPr b="1" lang="cy-GB" sz="2800" spc="-1" strike="noStrike">
                <a:solidFill>
                  <a:srgbClr val="40458c"/>
                </a:solidFill>
                <a:latin typeface="Tahoma"/>
              </a:rPr>
              <a:t>bod gan y cynnyrch ‘gynhwysydd cudd’, fformiwla – fel arfer bydd yr hysbysebion hyn yn cael eu hategu gan ‘bobl broffesiynol’ ac yn, neu efallai’n cynnwys iaith sy’n swnio’n arbenigol, technegol neu wyddonol </a:t>
            </a:r>
            <a:r>
              <a:rPr b="1" lang="sv-SE" sz="2800" spc="-1" strike="noStrike">
                <a:solidFill>
                  <a:srgbClr val="40458c"/>
                </a:solidFill>
                <a:latin typeface="Tahoma"/>
              </a:rPr>
              <a:t>– bifidum digestiv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Gwir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Defny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ddir pobl neu sefyllfaoedd gwirion, hurt, od neu annhebygol i ddal sylw’r defnyddiwr / prynw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(Hysbysebion doniol /chwerthinllyd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Gwasanaetha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Yn gwneud cyhoeddiad cyhoeddus, ceisio perswadio neu roi gwybodae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Hysbysebion gwasanaeth cyhoed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du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Cynhaliae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Yn pwysleisio pa mor ffres, da neu naturiol etc yw eitemau, yn enwedig bwyd neu ddio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(Cynhyrchion Bwyta’n 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Iach / Ffordd o Fyw</a:t>
            </a: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02:49:54Z</dcterms:created>
  <dc:creator>Castell Alun HS</dc:creator>
  <dc:description/>
  <dc:language>en-US</dc:language>
  <cp:lastModifiedBy>TimData</cp:lastModifiedBy>
  <dcterms:modified xsi:type="dcterms:W3CDTF">2015-05-06T18:19:48Z</dcterms:modified>
  <cp:revision>8</cp:revision>
  <dc:subject/>
  <dc:title>Advertising Strategies</dc:title>
</cp:coreProperties>
</file>